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3DD-435C-4F26-A62E-47B57B7D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06B-B3BB-4BB0-BD0F-02DF886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CA6-F56A-444A-A987-F362AD74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C83-3449-4712-8CEB-42FA1EFF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DA9-91EF-496F-BFF1-2E2EC8A7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05B-4CD3-45DF-920F-0D795152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A2C-FE22-4734-B220-48B0AB1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551-9B70-49E5-9FF4-16628A1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FE9-AD29-4C49-9B45-EAD9D735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60D-76A7-40FC-8C04-54A8EF9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E1E-5756-49FD-8771-C9694A0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251-CB3B-4F4E-BED9-F0A0505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630-20F4-4DDA-9FA0-2681E37855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commons/1/11/Melbourne_Skyline_and_Princes_Bridge_-_Dec_2008.jpg&amp;imgrefurl=http://commons.wikimedia.org/wiki/File:Melbourne_Skyline_and_Princes_Bridge_-_Dec_2008.jpg&amp;usg=__P2qhKIfW2bJvISVHrduB2tEaNlA=&amp;h=1500&amp;w=2250&amp;sz=2474&amp;hl=en&amp;start=4&amp;tbnid=Ip7gseSI8hvVvM:&amp;tbnh=100&amp;tbnw=150&amp;prev=/images%3Fq%3DMelbourne%2Bskyline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c.net.au/reslib/200902/r344358_1570479.jpg&amp;imgrefurl=http://www.abc.net.au/news/photos/2009/02/27/2503748.htm&amp;usg=__j_WRGZfWaBmR2uLoWR8VaeM7Rsw=&amp;h=600&amp;w=599&amp;sz=50&amp;hl=en&amp;start=10&amp;um=1&amp;tbnid=rUGJCMUN_xQfUM:&amp;tbnh=135&amp;tbnw=135&amp;prev=/images%3Fq%3DDame%2BElisabeth%2BMurdoch%26hl%3Den%26safe%3Dactive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farm1.static.flickr.com/53/141810407_b72a72a65d.jpg%3Fv%3D0&amp;imgrefurl=http://flickr.com/photos/38836978%40N00/141810407/&amp;usg=__yak0_ATJOHiiHvPjFd_IvJtPi54=&amp;h=375&amp;w=500&amp;sz=151&amp;hl=en&amp;start=9&amp;um=1&amp;tbnid=ewsVKSmtp0vh1M:&amp;tbnh=98&amp;tbnw=130&amp;prev=/images%3Fq%3DCollin%2BSt%26hl%3Den%26safe%3Dactive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bn0.google.com/images?q=tbn:Ip7gseSI8hvVvM:http://upload.wikimedia.org/wikipedia/commons/1/11/Melbourne_Skyline_and_Princes_Bridge_-_Dec_20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00b0f0"/>
                </a:solidFill>
                <a:latin typeface="Forte"/>
              </a:rPr>
              <a:t>Melbourne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e46c0a"/>
                </a:solidFill>
                <a:latin typeface="Calibri"/>
              </a:rPr>
              <a:t>By Holly McCoom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tbn1.google.com/images?q=tbn:rUGJCMUN_xQfUM:http://www.abc.net.au/reslib/200902/r344358_157047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95b3d7"/>
                </a:solidFill>
                <a:latin typeface="Calibri"/>
              </a:rPr>
              <a:t>Dame Elisabeth Murdo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alibri"/>
              </a:rPr>
              <a:t>She was born in February 1909 in Armadale Victoria. She is a Philanthropist. She was well known for her never ending charitable work. She in total supports 110 charities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bn1.google.com/images?q=tbn:ewsVKSmtp0vh1M:http://farm1.static.flickr.com/53/141810407_b72a72a65d.jpg%3Fv%3D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7030a0"/>
                </a:solidFill>
                <a:latin typeface="Calibri"/>
              </a:rPr>
              <a:t>Collins 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b050"/>
                </a:solidFill>
                <a:latin typeface="Calibri"/>
              </a:rPr>
              <a:t>Collins Street was named after Lieutenant-Governor David Collins who led an expedition to Port Phillip B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bn2.google.com/images?q=tbn:KI9uvxxF70-0KM:http://farm4.static.flickr.com/3050/2688567677_25f7fbca6f.jpg%3Fv%3D0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e46c0a"/>
                </a:solidFill>
                <a:latin typeface="Calibri"/>
              </a:rPr>
              <a:t>Parliament House.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c000"/>
                </a:solidFill>
                <a:latin typeface="Calibri"/>
              </a:rPr>
              <a:t>In 1853 there was a competition held to design a new Parliament House. By 1855 they decided on a  design  for the parliament hou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Royal Exhibition Building before 1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70c0"/>
                </a:solidFill>
                <a:latin typeface="Calibri"/>
              </a:rPr>
              <a:t>Royal Exhibition Cent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77933c"/>
                </a:solidFill>
                <a:latin typeface="Calibri"/>
              </a:rPr>
              <a:t>The Exhibition Building was opened in 1880 for the Melbourne International Exhibition of 1880-81.  The architect was Joseph Reed</a:t>
            </a:r>
            <a:r>
              <a:rPr b="0" lang="en-AU" sz="4800" spc="-1" strike="noStrike">
                <a:solidFill>
                  <a:srgbClr val="00b050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45Z</dcterms:created>
  <dc:creator>Education</dc:creator>
  <dc:description/>
  <dc:language>en-US</dc:language>
  <cp:lastModifiedBy>Education</cp:lastModifiedBy>
  <dcterms:modified xsi:type="dcterms:W3CDTF">2009-07-14T05:06:57Z</dcterms:modified>
  <cp:revision>9</cp:revision>
  <dc:subject/>
  <dc:title>Melbourne</dc:title>
</cp:coreProperties>
</file>